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1DD32-7C02-443B-8802-33F9151F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ACBBA-7215-45F8-813B-6DEAD389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DF847-EA51-4DC4-ACEF-6B3036F3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E2913-6678-468D-BE7C-27A643DC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67BA2-ED77-4717-83AC-577686B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CB89-4F9A-4CA6-80C3-BA19CCD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5795E-7383-46A9-8E2E-333BF45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1DCC1-CB69-4086-9CBB-500CFB8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4AC14-6628-45E5-9406-3BD5A32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832CF-FEBF-4800-9A42-739BC3CF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8BB5E-3486-4431-B603-ECF6E478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88678-6855-4715-84DC-68BCC6C7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DFA-2942-4688-8F8A-10C614F07443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1220760"/>
            <a:ext cx="8229600" cy="64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BUDOWA </a:t>
            </a:r>
            <a:br>
              <a:rPr sz="14000"/>
            </a:b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ATOMU</a:t>
            </a:r>
            <a:endParaRPr b="0" lang="en-US" sz="1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wykonała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mgr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Agnieszka Szaf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168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93640" y="7398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320" y="167472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5120" y="159768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968560"/>
            <a:ext cx="44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2320" y="1369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29276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68560"/>
            <a:ext cx="175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2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500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0" y="434124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2680" y="1369800"/>
            <a:ext cx="125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9685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480" y="2893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80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3480" y="42649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3040" y="13698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96856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52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4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426492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bity (powłoki elektronowe), po których krążą elektrony nazywamy kolejnymi literami alfabetu zaczynając od 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440" y="388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48080"/>
            <a:ext cx="1439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240" y="367200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0320" y="3087720"/>
            <a:ext cx="2158920" cy="215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97000" y="2722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5200" y="234324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1952640"/>
            <a:ext cx="4318200" cy="4317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8920" y="154620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336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8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640" y="3884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8847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768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8200" y="388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944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2760"/>
            <a:ext cx="838188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Maksymalną ilość elektronów na powłokach elektronowych obliczamy ze wzoru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n – numer powłoki elektronowe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Tahoma"/>
              </a:rPr>
              <a:t>Spis treśc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cc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2. Budowa atomu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3. Obliczanie ilości cząstek elementarnych w atomie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4. Rozmieszczanie elektronów na powłokach elektronowych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5. Przykłady i ćwiczeni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79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ksymalne upakowanie elektronów na poszczególnych powłokach elektron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6095880" cy="3560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łoka elektronow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symalna ilość elektron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1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2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3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4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3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5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50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6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7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684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węg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0" y="15220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360" y="1363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760" y="129492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880" y="28184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kres – 2 powłoki elektronowe (K 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y walen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4938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s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840" y="1064880"/>
            <a:ext cx="10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" y="912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280" y="236124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okres – 3 powłoki elektronowe (K L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 grupa – 1 elektron walen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142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8080" y="16750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66520" y="335268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000" y="5637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–(2+1)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627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440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ołowi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648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080" y="87624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080" y="2361240"/>
            <a:ext cx="73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 okres – 6 powłok elektronowych (K L M N O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520" y="3274200"/>
            <a:ext cx="12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  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6040" y="16750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66520" y="3351960"/>
            <a:ext cx="25146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724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–(2+8+18+32+4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7480" y="563724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52747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j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106488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91260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720" y="2361240"/>
            <a:ext cx="70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okres – 5 powłok elektronowych (K L M N 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7 grupa – 7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274200"/>
            <a:ext cx="10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8800" y="1675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2840" y="3351960"/>
            <a:ext cx="2438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5789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–(2+8+18+7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5680" y="5789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8800"/>
            <a:ext cx="8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W V wieku p.n.e starożytny filozof Demokryt głosił, że materia składa się z bardzo małych kulek – atomów, jednak swojej teorii nie mógł poprzeć dowodami eksperymentalnymi.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Po dwudziestu wiekach dopiero Dalton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(w 1805r) skonkretyzował zasadnicze założenia atomistycznej teorii: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307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3055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pierwiastki składają się z niezmiernie małych, niepodzielnych cząstek (atomów), które zachowują swoją indywidualność podczas przemian fizycznych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i chemiczny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wszystkie atomy jednego pierwiastka są jednakow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atomy różnych pierwiastków różnią się wielkością, masą i właściwościam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c) chemiczne łączenie się pierwiastków jest łączeniem się poszczególnych atom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66688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95680"/>
            <a:ext cx="6858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038480"/>
            <a:ext cx="1143000" cy="1143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49568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9907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1295280"/>
            <a:ext cx="1067040" cy="1067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9528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62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219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74320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352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8195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5909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0481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956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040" y="498600"/>
            <a:ext cx="8093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składa się z jądra okrążanego przez jeden lub większą liczbę ujemnie naładowanych cząstek, zwanych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am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odstawowymi składnikami jądra są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ukle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, czyli dodatnie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i pozbawione ładunku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031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okół jądra znajduje się przestrzeń,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 której poruszają się elektrony.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ądro atomowe otoczone jest szeregiem powłok elektronowych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zrastającym promieniu. Promień powłoki jest w przybliżeniu 100 000 razy większy niż promień jąd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ahoma"/>
              </a:rPr>
              <a:t>Rodzaje cząstek elementarnych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960" y="1941480"/>
          <a:ext cx="8229600" cy="274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zw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ładun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k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1840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01:38Z</dcterms:created>
  <dc:creator>tacin</dc:creator>
  <dc:description/>
  <dc:language>en-US</dc:language>
  <cp:lastModifiedBy>Agnieszka Szafran</cp:lastModifiedBy>
  <dcterms:modified xsi:type="dcterms:W3CDTF">2003-11-26T19:18:52Z</dcterms:modified>
  <cp:revision>98</cp:revision>
  <dc:subject/>
  <dc:title>BUDOWA ATOMU</dc:title>
</cp:coreProperties>
</file>